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CE99-FE3D-493A-9379-A1EAF10A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A8FE-0B39-4952-873D-594776E0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243A-FAEA-4CB0-B65A-7FC8799E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062B-FE28-4691-AD9C-77ACA7D0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3D1-9F48-4D05-A4F0-4BFCCF1F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62D8-0251-478D-93EF-778AC86A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4C66-8834-4D19-AD13-3DC85F12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EE21-8BD8-4F4E-8A3C-7CE18C3E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D199-9294-4AA0-848E-0EA5378F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8F6-6673-4BFB-9724-98BAE0BB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735C-1153-4B77-92B9-B2359787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F87-F580-4843-90A6-4D8DCE0F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C0C5-CC66-4A8B-B5D3-9CE8F0F23C8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76360" y="1419120"/>
          <a:ext cx="6238800" cy="4602240"/>
        </p:xfrm>
        <a:graphic>
          <a:graphicData uri="http://schemas.openxmlformats.org/drawingml/2006/table">
            <a:tbl>
              <a:tblPr/>
              <a:tblGrid>
                <a:gridCol w="884160"/>
                <a:gridCol w="1768680"/>
                <a:gridCol w="1547640"/>
                <a:gridCol w="203832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ooling rate (K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−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tomic fraction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5 %  confidence inter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17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6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29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31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1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48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4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46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2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29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28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5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2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2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2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35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09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4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46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2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Box 2"/>
          <p:cNvSpPr/>
          <p:nvPr/>
        </p:nvSpPr>
        <p:spPr>
          <a:xfrm>
            <a:off x="1467000" y="692280"/>
            <a:ext cx="61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1: Quantitative data relating to Fig. 5.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68360" y="1501920"/>
          <a:ext cx="8136000" cy="1350720"/>
        </p:xfrm>
        <a:graphic>
          <a:graphicData uri="http://schemas.openxmlformats.org/drawingml/2006/table">
            <a:tbl>
              <a:tblPr/>
              <a:tblGrid>
                <a:gridCol w="3887640"/>
                <a:gridCol w="1062000"/>
                <a:gridCol w="1062000"/>
                <a:gridCol w="1062360"/>
                <a:gridCol w="1062000"/>
              </a:tblGrid>
              <a:tr h="34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ooling rate from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</a:t>
                      </a:r>
                      <a:r>
                        <a:rPr b="0" lang="el-GR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γ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= 1373 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 K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−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0 K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−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K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−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 K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−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attern B, segregation during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γ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i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→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α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hange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x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egregation during cooling below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x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‒ x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2"/>
          <p:cNvSpPr/>
          <p:nvPr/>
        </p:nvSpPr>
        <p:spPr>
          <a:xfrm>
            <a:off x="1403280" y="797040"/>
            <a:ext cx="63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: Segregation of phosphorous during and after phase transformation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ion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presented as atomic fractions.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8360" y="4681440"/>
          <a:ext cx="8136000" cy="979560"/>
        </p:xfrm>
        <a:graphic>
          <a:graphicData uri="http://schemas.openxmlformats.org/drawingml/2006/table">
            <a:tbl>
              <a:tblPr/>
              <a:tblGrid>
                <a:gridCol w="4608360"/>
                <a:gridCol w="935280"/>
                <a:gridCol w="865080"/>
                <a:gridCol w="863640"/>
                <a:gridCol w="863640"/>
              </a:tblGrid>
              <a:tr h="35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 K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−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0 K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−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K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−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 K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−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egregation during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lang="el-G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γ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i="1" lang="el-G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→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lang="el-G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α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hange during cooling at 1 K s</a:t>
                      </a:r>
                      <a:r>
                        <a:rPr b="0" i="1" lang="en-US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−</a:t>
                      </a:r>
                      <a:r>
                        <a:rPr b="0" lang="en-US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egregation during cooling at different rates below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</a:t>
                      </a:r>
                      <a:r>
                        <a:rPr b="0" lang="en-US" sz="13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,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x</a:t>
                      </a:r>
                      <a:r>
                        <a:rPr b="0" lang="en-US" sz="13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‒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.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TextBox 4"/>
          <p:cNvSpPr/>
          <p:nvPr/>
        </p:nvSpPr>
        <p:spPr>
          <a:xfrm>
            <a:off x="1187280" y="3943440"/>
            <a:ext cx="67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3: Segregation of phosphorous during phase transformation and cooling in ferrite regime estimated from AES analysis on heat treatment pattern C.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8:20:52Z</dcterms:created>
  <dc:creator>Jeongin</dc:creator>
  <dc:description/>
  <dc:language>en-US</dc:language>
  <cp:lastModifiedBy>Jeongin</cp:lastModifiedBy>
  <dcterms:modified xsi:type="dcterms:W3CDTF">2014-07-01T07:18:22Z</dcterms:modified>
  <cp:revision>6</cp:revision>
  <dc:subject/>
  <dc:title>PowerPoint 프레젠테이션</dc:title>
</cp:coreProperties>
</file>